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8D35-0BED-41B2-B419-C6D845EF4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9A39-67A0-4F71-A9C3-9F5447169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E64A-FE0E-4B8E-957D-679820F17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8FF3-C44C-467D-BA1D-CB05E6C81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405C-AEB5-4248-AEE8-489F4EB34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60AB-029A-417D-8D4F-27EC8DF4C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A818-E40A-44FE-89E6-01F1DF901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C2A9-0704-47D6-92E9-04AAAAD63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97A2-C2D6-48F4-A172-DD9931F9B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7548-8BF7-42B9-A55E-F90F59332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B318-EFEE-4A96-A504-C5E3EFB83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3AE0-B14B-41C0-922E-6BA6F8A39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0C8C5-AD9C-47DD-9550-4A2F67680F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спользование тренажеров в технической и физической подготовке начинающих волейболист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ел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выявить и обосновать, что использование тренажерных устройств, в процессе подготовки волейболистов повышает их спортивные результа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проанализировать существующую научно-методическую литературу по данной проблеме исслед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определить роль тренажерных устройств, как одного из важных средств в процессе подготовки волейболис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расскрыть значение использования тренажеров в физической и технической подготовке волейболи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проследить за динамикой физической подготовки волейболис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ъект исследования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оцесс подготовки волейболис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дмет исследования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енажеры и тренажерные устройства, как одно из средств повышения физической подготовлен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ипотеза исследования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едположим что, используя тренажерные устройства в процессе подготовки волейболистов, повысится уровень физической подготовленности атакующего уда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ы иссле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Анализа литературных источн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Педагогическое тестиров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Метод математических статист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следование проводилось на базе Великодворской средней общеобразовательной шко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-1234440" y="3245760"/>
            <a:ext cx="102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од,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7772040" y="36687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2"/>
          <p:cNvSpPr/>
          <p:nvPr/>
        </p:nvSpPr>
        <p:spPr>
          <a:xfrm>
            <a:off x="1500120" y="660960"/>
            <a:ext cx="6829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казатели технической подготовки занимаю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 тренажерами и тренажерными устройствам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258920" y="1484280"/>
          <a:ext cx="7273800" cy="3895920"/>
        </p:xfrm>
        <a:graphic>
          <a:graphicData uri="http://schemas.openxmlformats.org/drawingml/2006/table">
            <a:tbl>
              <a:tblPr/>
              <a:tblGrid>
                <a:gridCol w="2424240"/>
                <a:gridCol w="2425680"/>
                <a:gridCol w="2423880"/>
              </a:tblGrid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.И.О. занимающихс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казатели техники атакующего удара в начале исследова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казатели техники атакующего удара в конце исслед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ладков А.\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ычков 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лободин Ж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пов С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еливанов 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/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/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/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/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/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.арифм.= (3+2+2+1+2):5=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.арифм.= (3+3+3+2+2):5=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Rectangle 91"/>
          <p:cNvSpPr/>
          <p:nvPr/>
        </p:nvSpPr>
        <p:spPr>
          <a:xfrm>
            <a:off x="2268360" y="5514840"/>
            <a:ext cx="4777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. арифм .= һ : 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ŗ –количество занимающих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ħ – сумма количеств попадан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468360" y="475920"/>
            <a:ext cx="79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оказатель технической подготовки занимающихся без тренажеров и тренажерных устрой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403280" y="2421000"/>
          <a:ext cx="6077160" cy="4114800"/>
        </p:xfrm>
        <a:graphic>
          <a:graphicData uri="http://schemas.openxmlformats.org/drawingml/2006/table">
            <a:tbl>
              <a:tblPr/>
              <a:tblGrid>
                <a:gridCol w="2025720"/>
                <a:gridCol w="2025720"/>
                <a:gridCol w="2025720"/>
              </a:tblGrid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.И.О. занимающихс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казатели техники атакующего удара в начале исследова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казатели техники атакующего удара в конце исслед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йцев 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ычков 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устов 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красов 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арзин С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/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/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. арифм. = (2+2+1+0+2):5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. арифм. = (2+3+1+1+2):5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258920" y="1916280"/>
          <a:ext cx="6264360" cy="4392360"/>
        </p:xfrm>
        <a:graphic>
          <a:graphicData uri="http://schemas.openxmlformats.org/drawingml/2006/table">
            <a:tbl>
              <a:tblPr/>
              <a:tblGrid>
                <a:gridCol w="2087640"/>
                <a:gridCol w="2089080"/>
                <a:gridCol w="2087640"/>
              </a:tblGrid>
              <a:tr h="194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6T09:48:46Z</dcterms:created>
  <dc:creator>Приятель</dc:creator>
  <dc:description/>
  <dc:language>en-US</dc:language>
  <cp:lastModifiedBy>Максим</cp:lastModifiedBy>
  <dcterms:modified xsi:type="dcterms:W3CDTF">2010-10-30T18:17:04Z</dcterms:modified>
  <cp:revision>3</cp:revision>
  <dc:subject/>
  <dc:title>Использование тренажеров в технической и физической подготовке начинающих волейболистов.</dc:title>
</cp:coreProperties>
</file>